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97360" y="0"/>
            <a:ext cx="2982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9736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C93B-8D8C-4FA9-A964-534C0FF6FB0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9736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7411-F0B4-463F-A4B4-182251A274BD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9736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DEBD-7FD5-4AE6-A7EA-5119EAA3FC61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9736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281D-C073-4632-BE3D-23C998A6778D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1600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97360" y="8831160"/>
            <a:ext cx="2982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B504-522E-4A38-B70C-1A04644B5A2D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641-3FD6-4B08-AF2F-1B6C744C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9231-DA26-41CB-9BFF-E86BA12C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F27-4301-4A72-BF05-B1753BC0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A83-3CE3-46A6-9260-8CB9E876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0959-632D-4108-9BF7-47C592FA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3A8E-4FDF-499D-BD78-732B14DD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4860-107E-482D-9779-FC4338F1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376F-AF66-4100-9C7B-7C92F560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D0B5-D3A7-489E-B4B6-2F4189F7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BF93-8235-48D5-947C-A5C7E3BA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756F-3F48-4F22-83FE-9B07801C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99C-E169-413C-BA01-137F8C62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2C5B-7D81-4F1A-9A5A-3E0FC65A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4DDA-EE7E-43D0-AE72-257222C1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BF5D-4395-4C58-8E06-5D1BEA45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F31B-1FE0-467C-BE1C-FB4C4140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3E7D-88DB-4157-BD69-5000E710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2E640-402A-4E3D-8446-E33B3149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6DE34-4DF6-47D2-B3CF-51E9387A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A2AEF-261E-488C-B665-3E83CE48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892C5-DCA6-4F30-B2E2-DF701CFC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71101-7D7F-4F4E-ACDD-4BFC6DE3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FB8-C974-4333-9E7E-1F423AF6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FC20C-771A-491B-8685-8F0DEE12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18283-ABC0-4281-8866-3A977498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ECBAC-D77E-4727-94BE-AB5DB663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91D1E-942E-4B55-9DFC-6D2C3E57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DCAAC-F662-42F8-861A-9AB73CDF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FB28D-26FE-415F-BD75-8D635A81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2387B-0BE0-4B47-843B-4B4027FE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27CA51-E6B5-4062-B2FC-AFE17790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58D3DF-75FA-4272-9FE6-A10441EE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DECD99-57BB-4C7A-B83D-8C6176EE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D9A-3F35-4446-8FED-1C00E3D1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977A0-A5BE-494D-AB11-9C8A5CAC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D86CB1-44CE-4C08-9680-7749D241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3B3A3-B38D-4158-BBFC-2870ACAB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66C12-1FA2-4329-A510-581DDCDA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C11C34-131A-4919-BF8F-3314AA0F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3929C-77F1-40D6-A3EA-55B8AF39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D1EE5A-8B64-4E64-A06A-D343495C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E3256B-8CD2-42D3-8F30-94257C9E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739B7-22B0-4773-BB2E-FE5E7370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AA8E5-E653-4717-A526-A695F6E5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2CD-4831-4C3A-9309-C345A400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3E511-A987-405D-BC5F-F8433742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29D16-813F-40FA-8403-91712A1E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EAD42-46F0-4014-B103-FEB9B6D8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FBED3-313C-4EC0-AD53-466F95BD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2D688-0209-4FE5-9655-5A4134EC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A00CCA-8AF2-4328-B8DB-C234BC4C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D6E2A-A317-4C56-815C-A885DD56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B45B6-B727-4C3A-B2A0-C554536B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C8C64-3EA0-4A7A-9A3B-AE823CC0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A5E36-17BE-48DA-8A0F-824143EA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A3A-2D8E-4CD0-B5C6-2DADEFC2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86AF1-D663-4954-8F23-8B4F4FB2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946CA-56B0-4C94-8031-132B1FA9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2FC45-0AD6-4B1C-AB1B-B90F7B79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B678C-1FA8-46DF-A5DA-3A63CD52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2AFA6-59F3-4811-A0C9-1F43A2C4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C0FF5-FD97-4404-9C19-47033A4B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BDB57-083A-4361-A4D6-FB608357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F7045-7C01-44AC-9810-E504BF2E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26A62-9B7B-4ECC-A3D0-DA02106D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51B6F-C7AF-4619-A403-3600E9BC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C86-9431-4F34-A28A-AC9C5C1F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7AED4-B62A-4C13-9E62-D57FD440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2D107-2E38-479D-A05C-435D67C9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2DED3-193C-4604-A20C-82D4D06E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884D5-80E6-49B5-A8AE-BD5A7273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B3F74-1973-4979-A77D-8792F1D1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940D53-F188-4D4F-95DE-507FEDB2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DFA31-D9BF-4FC1-9DD3-3382BB2D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04E3C7-8D06-4292-8A9C-BED0367E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B10113-E8E2-4DC0-AF05-DAEB67EB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2E29F5-43C7-4584-B2EA-C748D29F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C8A-5091-4755-9722-2956EB17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D0EDF-B2F9-447E-9515-591CB36F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562CC3-B36D-49DF-AA70-DEA917D3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5B388A-1B30-48D0-8DF1-D8109E4F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3681AA-95C2-4D61-8925-C749B620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8AF741-BCB7-4164-8A27-5FB53762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B160D-129F-46A7-8BBF-A589096D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E9A5C-1BD0-4F84-B6DF-C99FC63D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6CA36-9530-44DE-B1DA-3285ADDF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EF499-E6BD-4959-B48C-C7A96727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DC079-1802-45FE-8DF3-F8A326A6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0A9-74DF-4C27-A918-A6895EF0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86BA7-973C-4298-9FD5-C12C7253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3D816-7506-4EAA-A4E7-8A85DEAB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5BA65-2376-42B0-99A5-CADF73B1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163B3-34EE-40E7-B494-261B04E8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27FEC-5A0C-4F51-8624-9DD82F48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5C0D4-216A-4B7B-A6F2-BC128A2A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644DD-F27C-452E-B9D5-96B10408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E542-2627-4049-B38A-E2C1BA7B155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6332-9D64-4BD8-9ACB-75A285DDB7E8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ECE1-D8E5-4876-A54B-9D59FD55AE8E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F1BE-7140-42C3-9EAF-38EC4FF570F6}" type="slidenum">
              <a:rPr b="1" lang="en-CA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CA20-E05C-44BA-AA7C-F71697B1EB2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F8F1-AC3C-40C4-B19F-7BFF8E8C9001}" type="slidenum">
              <a:rPr b="1" lang="en-C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1E25-85C7-45AF-9C00-A6454F590C5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3D55-9680-4AD5-AFF4-A3FC1C8B946E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A174-9A3C-404A-8615-14C6DB7E904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90AD-5198-4BCA-A3F0-F8FCB4227B58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FF18-C9D7-45EC-A4F4-819DB96CADD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01D9-DAF4-4D4B-83EF-D86BB41A5C87}" type="slidenum">
              <a:rPr b="1" lang="en-CA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17A5-0BFD-4577-A4F3-EC4B937AA60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837F-3C3C-42CA-864A-2E9B9E6F8446}" type="slidenum">
              <a:rPr b="1" lang="en-C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5474-4615-448D-A843-C62B4A4CE10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16B0-AA9F-4EA1-B250-31C54B8EE6A3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Understanding Pover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Slide Number Placeholder 2"/>
          <p:cNvSpPr/>
          <p:nvPr/>
        </p:nvSpPr>
        <p:spPr>
          <a:xfrm>
            <a:off x="0" y="175248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727C-5101-45EA-9C04-A1EEF14048D1}" type="slidenum">
              <a:rPr b="1" lang="en-C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nderstanding Poverty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Canada today, many people have trouble meeting their basic needs and rarely have a chance to get the special things they wan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is estimated that 1 out of 5 children in Canada lives with pover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verty is living below the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Standard of Liv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ndard of Living is how much buying power a family has.  (Home, food, entertainment, transportation, etc.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EBF3-1F3E-4CDA-9F08-2EDB003A90C4}" type="slidenum">
              <a:rPr b="1" lang="en-C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Poverty, Getting By, or Getting Ahead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09480" y="1981080"/>
          <a:ext cx="8153640" cy="4267440"/>
        </p:xfrm>
        <a:graphic>
          <a:graphicData uri="http://schemas.openxmlformats.org/drawingml/2006/table">
            <a:tbl>
              <a:tblPr/>
              <a:tblGrid>
                <a:gridCol w="2718000"/>
                <a:gridCol w="2717640"/>
                <a:gridCol w="271800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xpenses for Basic Ne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c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364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EE6C-88B3-4947-84FC-A7DC524B0CD6}" type="slidenum">
              <a:rPr b="1" lang="en-C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y do we have poverty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6" name="Content Placeholder 5" descr=""/>
          <p:cNvPicPr/>
          <p:nvPr/>
        </p:nvPicPr>
        <p:blipFill>
          <a:blip r:embed="rId1"/>
          <a:stretch/>
        </p:blipFill>
        <p:spPr>
          <a:xfrm>
            <a:off x="596880" y="1579680"/>
            <a:ext cx="4091040" cy="4595760"/>
          </a:xfrm>
          <a:prstGeom prst="rect">
            <a:avLst/>
          </a:prstGeom>
          <a:ln w="0">
            <a:noFill/>
          </a:ln>
        </p:spPr>
      </p:pic>
      <p:pic>
        <p:nvPicPr>
          <p:cNvPr id="367" name="Content Placeholder 6" descr=""/>
          <p:cNvPicPr/>
          <p:nvPr/>
        </p:nvPicPr>
        <p:blipFill>
          <a:blip r:embed="rId2"/>
          <a:stretch/>
        </p:blipFill>
        <p:spPr>
          <a:xfrm>
            <a:off x="4767120" y="1579680"/>
            <a:ext cx="3975120" cy="4595760"/>
          </a:xfrm>
          <a:prstGeom prst="rect">
            <a:avLst/>
          </a:prstGeom>
          <a:ln w="0">
            <a:noFill/>
          </a:ln>
        </p:spPr>
      </p:pic>
      <p:sp>
        <p:nvSpPr>
          <p:cNvPr id="368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1F75-0727-4717-B4D2-A3D2A6D357ED}" type="slidenum">
              <a:rPr b="1" lang="en-CA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2:53:46Z</dcterms:created>
  <dc:creator>ladmin</dc:creator>
  <dc:description/>
  <dc:language>en-US</dc:language>
  <cp:lastModifiedBy>ladmin</cp:lastModifiedBy>
  <cp:lastPrinted>2013-04-09T14:49:27Z</cp:lastPrinted>
  <dcterms:modified xsi:type="dcterms:W3CDTF">2014-10-22T00:17:19Z</dcterms:modified>
  <cp:revision>145</cp:revision>
  <dc:subject/>
  <dc:title>Economic Empowerment</dc:title>
</cp:coreProperties>
</file>